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835-0FD6-4020-9A80-48B94508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762-7CD0-4057-8457-B50D0994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F80-9554-460C-8EE2-1B26E62F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EA8-8DD0-4B7A-A516-762BF997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543-B3BC-4CA4-8D17-391C6EB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852-87C7-4586-9BCD-D75FDA56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4DB-3339-4C4C-A0C5-3FAEF891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943-E7B2-414A-ADA2-C183F275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B7A-55A9-4F7D-AE1D-FA6D205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AEB-C140-43CA-88FF-E69F020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B6A-1067-4478-880F-4355740A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A32-C8D8-417C-AE09-6786106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1A59-AAEA-443F-95B4-98B2D1019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ssil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fossi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ssil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rved remains or traces of living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sils form when living things die and are buried by sed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36960" y="304920"/>
            <a:ext cx="406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52280" y="685800"/>
            <a:ext cx="883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ologic Reco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history of an area as shown by rock lay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aw of Superpos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n horizontal sedimentary rock layers, the oldest layer is at the bottom, each higher layer is younger than the layers below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r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gneous rock that hardens on the surface – layers of basalt (lava) or ash – younger than rocks below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r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gneous rock that hardens beneath the surface – sills, dikes, batholiths – younger than rocks it cuts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04920" y="762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ul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ks in the Earth’s crust, always younger than the rocks the fault break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nconform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gap in the geologic record caused by ero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dex foss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widely distributed fossil organism that existed only brief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286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33520" y="762120"/>
            <a:ext cx="464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organism (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plant) 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burie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 is compa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emented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imentary r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&amp; ero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expose fos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39092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04920" y="38088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fossi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ld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low area in sediment in the shape of an organism (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o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s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olid copy of the shape of an organism (opposite of mol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d is filled with minerals and sedi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trified foss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inerals replace organisms tissue, organism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rified – turned to st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rbon film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film of carbon in the shape of the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ce fossil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the activities of organisms, like preserved tracks or pr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served remai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tual remains preserved relativ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hanged, like a fly trapped in 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11192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4857480" cy="3000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21932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m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73640" y="32767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847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76400" y="3200400"/>
            <a:ext cx="61912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26680" y="33526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e fos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28200" y="274320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rved re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152280"/>
            <a:ext cx="8534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who study fossils are called paleont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: all of the information that scientists have gathered about past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 is evidence of past climates –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s of tropical organisms have been found in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arc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 record is evidence of how organisms change over time – how they evol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ssils occur in a particular order – older rocks contain fossils of simpler organisms, younger rocks contain fossils of more complex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538200"/>
            <a:ext cx="85723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62120" y="6094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 age: the age of a rock compared to the ages of other rocks (which rocks are older, which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762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5334120" y="2743200"/>
            <a:ext cx="3504960" cy="2246400"/>
            <a:chOff x="5334120" y="2743200"/>
            <a:chExt cx="3504960" cy="2246400"/>
          </a:xfrm>
        </p:grpSpPr>
        <p:pic>
          <p:nvPicPr>
            <p:cNvPr id="61" name="Picture 5" descr=""/>
            <p:cNvPicPr/>
            <p:nvPr/>
          </p:nvPicPr>
          <p:blipFill>
            <a:blip r:embed="rId2"/>
            <a:stretch/>
          </p:blipFill>
          <p:spPr>
            <a:xfrm>
              <a:off x="5334120" y="2743200"/>
              <a:ext cx="3504960" cy="7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"/>
            <p:cNvPicPr/>
            <p:nvPr/>
          </p:nvPicPr>
          <p:blipFill>
            <a:blip r:embed="rId3"/>
            <a:stretch/>
          </p:blipFill>
          <p:spPr>
            <a:xfrm>
              <a:off x="5334120" y="3478680"/>
              <a:ext cx="3504960" cy="7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"/>
            <p:cNvPicPr/>
            <p:nvPr/>
          </p:nvPicPr>
          <p:blipFill>
            <a:blip r:embed="rId4"/>
            <a:stretch/>
          </p:blipFill>
          <p:spPr>
            <a:xfrm>
              <a:off x="5334120" y="4214520"/>
              <a:ext cx="3504960" cy="77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15:49:02Z</dcterms:created>
  <dc:creator>CO-03017689</dc:creator>
  <dc:description/>
  <dc:language>en-US</dc:language>
  <cp:lastModifiedBy>CO-03017689</cp:lastModifiedBy>
  <dcterms:modified xsi:type="dcterms:W3CDTF">2016-04-13T16:17:24Z</dcterms:modified>
  <cp:revision>4</cp:revision>
  <dc:subject/>
  <dc:title>Fossil Notes</dc:title>
</cp:coreProperties>
</file>